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larendon Condensed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Clarendon Condense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larendon Condense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ff"/>
                </a:solidFill>
                <a:latin typeface="CG Times"/>
              </a:rPr>
              <a:t>Click to move the slide</a:t>
            </a:r>
            <a:endParaRPr b="1" lang="en-US" sz="6000" spc="-1" strike="noStrike">
              <a:solidFill>
                <a:srgbClr val="0066ff"/>
              </a:solidFill>
              <a:latin typeface="CG Time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Clarendon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larendon Condense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Clarendon Condense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692F8DF-317A-4B56-BD7E-BF61C8CA15B5}" type="slidenum">
              <a:rPr b="0" lang="en-US" sz="1200" spc="-1" strike="noStrike">
                <a:solidFill>
                  <a:srgbClr val="000000"/>
                </a:solidFill>
                <a:latin typeface="Clarendon Condense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22F438B-56AE-4F2E-93EA-F110D7B2E798}" type="slidenum">
              <a:rPr b="0" lang="en-US" sz="1200" spc="-1" strike="noStrike">
                <a:solidFill>
                  <a:srgbClr val="000000"/>
                </a:solidFill>
                <a:latin typeface="Clarendon Condense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larendon Condense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larendon Condensed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larendon Condense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698480" y="380880"/>
            <a:ext cx="3562560" cy="267192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598320" y="3204720"/>
            <a:ext cx="5910480" cy="541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18B9EA1-3AED-441E-8089-D27308059B45}" type="slidenum">
              <a:rPr b="0" lang="en-US" sz="1200" spc="-1" strike="noStrike">
                <a:solidFill>
                  <a:srgbClr val="000000"/>
                </a:solidFill>
                <a:latin typeface="Clarendon Condense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larendon Condense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larendon Condensed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larendon Condense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852560" y="380880"/>
            <a:ext cx="3252960" cy="244008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03668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through these procedures fairly quickly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’s an exercise to lear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want them to be able to understand the form and what it s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AIN APPROPRIATE FOR THE CONTEN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trust a NYT times article from a personal page as much as one from nytimes.c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py of Jackie Onassis’s will from a personal page as much as one from the California Bar Assn.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of a personal page would be: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aol.com/~jba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loosely paralleled by the sequence of the form in the next exerci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31C2A3C-C8CD-42DA-8877-1614D241A227}" type="slidenum">
              <a:rPr b="0" lang="en-US" sz="1200" spc="-1" strike="noStrike">
                <a:solidFill>
                  <a:srgbClr val="000000"/>
                </a:solidFill>
                <a:latin typeface="Clarendon Condense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larendon Condense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larendon Condensed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larendon Condense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698480" y="380880"/>
            <a:ext cx="3562560" cy="267192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598320" y="3204720"/>
            <a:ext cx="5910480" cy="542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CC4E946-8ACE-42AD-B32D-408297D75E32}" type="slidenum">
              <a:rPr b="0" lang="en-US" sz="1200" spc="-1" strike="noStrike">
                <a:solidFill>
                  <a:srgbClr val="000000"/>
                </a:solidFill>
                <a:latin typeface="Clarendon Condense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larendon Condense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larendon Condensed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larendon Condense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698480" y="380880"/>
            <a:ext cx="3562560" cy="267192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598320" y="3204720"/>
            <a:ext cx="5910480" cy="541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 trust the lii.org more than many referrals.  If there are annotations by professionals, that hel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rden is on you, alw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nstrate link: search example in Goo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http://www.hanksville.org/yucatan/mayaca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204226A-BDAE-4443-B560-8A49D689E353}" type="slidenum">
              <a:rPr b="0" lang="en-US" sz="1200" spc="-1" strike="noStrike">
                <a:solidFill>
                  <a:srgbClr val="000000"/>
                </a:solidFill>
                <a:latin typeface="Clarendon Condense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larendon Condense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larendon Condensed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larendon Condense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698480" y="380880"/>
            <a:ext cx="3562560" cy="267192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598320" y="3204720"/>
            <a:ext cx="5910480" cy="541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 trust the lii.org more than many referrals.  If there are annotations by professionals, that hel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rden is on you, alw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nstrate link: search example in Goo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http://www.hanksville.org/yucatan/mayaca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BA7711F-1CF8-4F73-BAC3-C9A937BFC6FC}" type="slidenum">
              <a:rPr b="0" lang="en-US" sz="1200" spc="-1" strike="noStrike">
                <a:solidFill>
                  <a:srgbClr val="000000"/>
                </a:solidFill>
                <a:latin typeface="Clarendon Condense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larendon Condense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larendon Condensed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larendon Condense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698480" y="380880"/>
            <a:ext cx="3562560" cy="267192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598320" y="3204720"/>
            <a:ext cx="5910480" cy="542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7520" y="1523880"/>
            <a:ext cx="805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7520" y="4230360"/>
            <a:ext cx="805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7520" y="152388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43480" y="152388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7520" y="423036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43480" y="423036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7520" y="1523880"/>
            <a:ext cx="259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39840" y="1523880"/>
            <a:ext cx="259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62160" y="1523880"/>
            <a:ext cx="259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7520" y="4230360"/>
            <a:ext cx="259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39840" y="4230360"/>
            <a:ext cx="259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62160" y="4230360"/>
            <a:ext cx="259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17520" y="1523880"/>
            <a:ext cx="805176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17520" y="1523880"/>
            <a:ext cx="80517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17520" y="1523880"/>
            <a:ext cx="3929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43480" y="1523880"/>
            <a:ext cx="3929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560" y="543600"/>
            <a:ext cx="80010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17520" y="152388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43480" y="1523880"/>
            <a:ext cx="3929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17520" y="423036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7520" y="1523880"/>
            <a:ext cx="805176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17520" y="1523880"/>
            <a:ext cx="3929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43480" y="152388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43480" y="423036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17520" y="152388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43480" y="152388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17520" y="4230360"/>
            <a:ext cx="805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17520" y="1523880"/>
            <a:ext cx="805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17520" y="4230360"/>
            <a:ext cx="805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17520" y="152388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43480" y="152388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17520" y="423036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43480" y="423036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17520" y="1523880"/>
            <a:ext cx="259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39840" y="1523880"/>
            <a:ext cx="259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62160" y="1523880"/>
            <a:ext cx="259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17520" y="4230360"/>
            <a:ext cx="259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39840" y="4230360"/>
            <a:ext cx="259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62160" y="4230360"/>
            <a:ext cx="259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7520" y="1523880"/>
            <a:ext cx="80517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7520" y="1523880"/>
            <a:ext cx="3929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43480" y="1523880"/>
            <a:ext cx="3929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560" y="543600"/>
            <a:ext cx="80010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7520" y="152388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43480" y="1523880"/>
            <a:ext cx="3929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7520" y="423036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7520" y="1523880"/>
            <a:ext cx="3929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43480" y="152388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43480" y="423036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7520" y="152388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43480" y="152388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7520" y="4230360"/>
            <a:ext cx="805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17520" y="1523880"/>
            <a:ext cx="80517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rot="5400000">
            <a:off x="7980480" y="386640"/>
            <a:ext cx="1369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larendon Condensed"/>
              </a:rPr>
              <a:t>to the</a:t>
            </a:r>
            <a:r>
              <a:rPr b="0" lang="en-US" sz="4800" spc="-1" strike="noStrike">
                <a:solidFill>
                  <a:srgbClr val="ffcc00"/>
                </a:solidFill>
                <a:latin typeface="Clarendon Condensed"/>
              </a:rPr>
              <a:t>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 txBox="1"/>
          <p:nvPr/>
        </p:nvSpPr>
        <p:spPr>
          <a:xfrm rot="4980000">
            <a:off x="8121240" y="1771560"/>
            <a:ext cx="1152720" cy="42552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FadeLeft">
              <a:avLst>
                <a:gd name="adj" fmla="val 219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00"/>
                </a:solidFill>
                <a:latin typeface="Garamond"/>
              </a:rPr>
              <a:t>MAX</a:t>
            </a:r>
            <a:endParaRPr b="0" lang="en-US" sz="4000" spc="1" strike="noStrike">
              <a:ln w="0">
                <a:noFill/>
              </a:ln>
              <a:solidFill>
                <a:srgbClr val="ff0000"/>
              </a:solidFill>
              <a:latin typeface="Garamond"/>
              <a:ea typeface="Garamond"/>
            </a:endParaRPr>
          </a:p>
        </p:txBody>
      </p:sp>
      <p:sp>
        <p:nvSpPr>
          <p:cNvPr id="4" name=""/>
          <p:cNvSpPr/>
          <p:nvPr/>
        </p:nvSpPr>
        <p:spPr>
          <a:xfrm>
            <a:off x="6617520" y="-51120"/>
            <a:ext cx="213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Georgia"/>
              </a:rPr>
              <a:t>G</a:t>
            </a:r>
            <a:r>
              <a:rPr b="1" lang="en-US" sz="4000" spc="-1" strike="noStrike">
                <a:solidFill>
                  <a:srgbClr val="ff3300"/>
                </a:solidFill>
                <a:latin typeface="Georgia"/>
              </a:rPr>
              <a:t>o</a:t>
            </a:r>
            <a:r>
              <a:rPr b="1" lang="en-US" sz="4000" spc="-1" strike="noStrike">
                <a:solidFill>
                  <a:srgbClr val="eee800"/>
                </a:solidFill>
                <a:latin typeface="Georgia"/>
              </a:rPr>
              <a:t>o</a:t>
            </a:r>
            <a:r>
              <a:rPr b="1" lang="en-US" sz="4000" spc="-1" strike="noStrike">
                <a:solidFill>
                  <a:srgbClr val="0066ff"/>
                </a:solidFill>
                <a:latin typeface="Georgia"/>
              </a:rPr>
              <a:t>g</a:t>
            </a:r>
            <a:r>
              <a:rPr b="1" lang="en-US" sz="4000" spc="-1" strike="noStrike">
                <a:solidFill>
                  <a:srgbClr val="00d600"/>
                </a:solidFill>
                <a:latin typeface="Georgia"/>
              </a:rPr>
              <a:t>l</a:t>
            </a:r>
            <a:r>
              <a:rPr b="1" lang="en-US" sz="2400" spc="-1" strike="noStrike">
                <a:solidFill>
                  <a:srgbClr val="ff3300"/>
                </a:solidFill>
                <a:latin typeface="Georgia"/>
              </a:rPr>
              <a:t>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78320" y="2184840"/>
            <a:ext cx="1930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larendon Condensed"/>
              </a:rPr>
              <a:t>to the</a:t>
            </a:r>
            <a:r>
              <a:rPr b="0" lang="en-US" sz="4800" spc="-1" strike="noStrike">
                <a:solidFill>
                  <a:srgbClr val="ffcc00"/>
                </a:solidFill>
                <a:latin typeface="Clarendon Condensed"/>
              </a:rPr>
              <a:t>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 rot="21180000">
            <a:off x="5384520" y="1848960"/>
            <a:ext cx="2616120" cy="109224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FadeLeft">
              <a:avLst>
                <a:gd name="adj" fmla="val 3266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MAX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  <p:sp>
        <p:nvSpPr>
          <p:cNvPr id="43" name=""/>
          <p:cNvSpPr/>
          <p:nvPr/>
        </p:nvSpPr>
        <p:spPr>
          <a:xfrm>
            <a:off x="747720" y="1027080"/>
            <a:ext cx="4219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ff"/>
                </a:solidFill>
                <a:latin typeface="Georgia"/>
              </a:rPr>
              <a:t>G</a:t>
            </a:r>
            <a:r>
              <a:rPr b="1" lang="en-US" sz="8000" spc="-1" strike="noStrike">
                <a:solidFill>
                  <a:srgbClr val="ff3300"/>
                </a:solidFill>
                <a:latin typeface="Georgia"/>
              </a:rPr>
              <a:t>o</a:t>
            </a:r>
            <a:r>
              <a:rPr b="1" lang="en-US" sz="8000" spc="-1" strike="noStrike">
                <a:solidFill>
                  <a:srgbClr val="eee800"/>
                </a:solidFill>
                <a:latin typeface="Georgia"/>
              </a:rPr>
              <a:t>o</a:t>
            </a:r>
            <a:r>
              <a:rPr b="1" lang="en-US" sz="8000" spc="-1" strike="noStrike">
                <a:solidFill>
                  <a:srgbClr val="0066ff"/>
                </a:solidFill>
                <a:latin typeface="Georgia"/>
              </a:rPr>
              <a:t>g</a:t>
            </a:r>
            <a:r>
              <a:rPr b="1" lang="en-US" sz="8000" spc="-1" strike="noStrike">
                <a:solidFill>
                  <a:srgbClr val="00d600"/>
                </a:solidFill>
                <a:latin typeface="Georgia"/>
              </a:rPr>
              <a:t>l</a:t>
            </a:r>
            <a:r>
              <a:rPr b="1" lang="en-US" sz="5400" spc="-1" strike="noStrike">
                <a:solidFill>
                  <a:srgbClr val="ff3300"/>
                </a:solidFill>
                <a:latin typeface="Georgia"/>
              </a:rPr>
              <a:t>ing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ff"/>
                </a:solidFill>
                <a:latin typeface="CG Times"/>
              </a:rPr>
              <a:t>Click to edit the title text format</a:t>
            </a:r>
            <a:endParaRPr b="1" lang="en-US" sz="6000" spc="-1" strike="noStrike">
              <a:solidFill>
                <a:srgbClr val="0066ff"/>
              </a:solidFill>
              <a:latin typeface="CG Time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lib.berkeley.edu/find/types/websites.html" TargetMode="External"/><Relationship Id="rId3" Type="http://schemas.openxmlformats.org/officeDocument/2006/relationships/hyperlink" Target="http://www.lib.berkeley.edu/find/types/websites.html" TargetMode="External"/><Relationship Id="rId4" Type="http://schemas.openxmlformats.org/officeDocument/2006/relationships/hyperlink" Target="http://www.lib.berkeley.edu/TeachingLib/Guides/Internet/FindInfo.html" TargetMode="External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dhmo.org/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alexa.com/" TargetMode="External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blogsearch.google.com/" TargetMode="External"/><Relationship Id="rId3" Type="http://schemas.openxmlformats.org/officeDocument/2006/relationships/hyperlink" Target="http://blogsearch.google.com/" TargetMode="External"/><Relationship Id="rId4" Type="http://schemas.openxmlformats.org/officeDocument/2006/relationships/hyperlink" Target="http://blogsearch.google.com/" TargetMode="External"/><Relationship Id="rId5" Type="http://schemas.openxmlformats.org/officeDocument/2006/relationships/slideLayout" Target="../slideLayouts/slideLayout4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762120" y="2514600"/>
            <a:ext cx="76960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r" pos="680076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r" pos="6800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John Kupersmith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r" pos="6800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jkupersm [at] library.berkeley.edu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lnSpc>
                <a:spcPct val="110000"/>
              </a:lnSpc>
              <a:spcBef>
                <a:spcPts val="499"/>
              </a:spcBef>
              <a:tabLst>
                <a:tab algn="l" pos="0"/>
                <a:tab algn="r" pos="6800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 “Know Your Library” Workshop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r" pos="6800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Teaching Library, University of California, Berkeley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r" pos="6800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Spring 2009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3960" y="759600"/>
            <a:ext cx="50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CG Times"/>
              </a:rPr>
              <a:t>Research-quality Web Search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480" y="5011200"/>
            <a:ext cx="8077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 Unicode MS"/>
              </a:rPr>
              <a:t>COURSE PAGES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6600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cc6600"/>
                </a:solidFill>
                <a:uFillTx/>
                <a:latin typeface="Arial"/>
                <a:hlinkClick r:id="rId3"/>
              </a:rPr>
              <a:t>www.lib.berkeley.edu/find/types/websites.htm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6600"/>
                </a:solidFill>
                <a:uFillTx/>
                <a:latin typeface="Arial"/>
                <a:hlinkClick r:id="rId4"/>
              </a:rPr>
              <a:t>http://www.lib.berkeley.edu/TeachingLib/Guides/Internet/FindInfo.htm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293120"/>
            <a:ext cx="775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66ff"/>
                </a:solidFill>
                <a:latin typeface="Baskerville Semibold"/>
              </a:rPr>
              <a:t>G</a:t>
            </a:r>
            <a:r>
              <a:rPr b="0" lang="en-US" sz="7200" spc="-1" strike="noStrike">
                <a:solidFill>
                  <a:srgbClr val="ff3300"/>
                </a:solidFill>
                <a:latin typeface="Baskerville Semibold"/>
              </a:rPr>
              <a:t>o</a:t>
            </a:r>
            <a:r>
              <a:rPr b="0" lang="en-US" sz="7200" spc="-1" strike="noStrike">
                <a:solidFill>
                  <a:srgbClr val="ffcc00"/>
                </a:solidFill>
                <a:latin typeface="Baskerville Semibold"/>
              </a:rPr>
              <a:t>o</a:t>
            </a:r>
            <a:r>
              <a:rPr b="0" lang="en-US" sz="7200" spc="-1" strike="noStrike">
                <a:solidFill>
                  <a:srgbClr val="0066ff"/>
                </a:solidFill>
                <a:latin typeface="Baskerville Semibold"/>
              </a:rPr>
              <a:t>g</a:t>
            </a:r>
            <a:r>
              <a:rPr b="0" lang="en-US" sz="7200" spc="-1" strike="noStrike">
                <a:solidFill>
                  <a:srgbClr val="3cb43c"/>
                </a:solidFill>
                <a:latin typeface="Baskerville Semibold"/>
              </a:rPr>
              <a:t>l</a:t>
            </a:r>
            <a:r>
              <a:rPr b="0" lang="en-US" sz="7200" spc="-1" strike="noStrike">
                <a:solidFill>
                  <a:srgbClr val="ff3300"/>
                </a:solidFill>
                <a:latin typeface="Baskerville Semibold"/>
              </a:rPr>
              <a:t>e</a:t>
            </a:r>
            <a:r>
              <a:rPr b="0" lang="en-US" sz="6000" spc="-1" strike="noStrike">
                <a:solidFill>
                  <a:srgbClr val="ffcc00"/>
                </a:solidFill>
                <a:latin typeface="Arial"/>
              </a:rPr>
              <a:t> and Beyond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et’s visit …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775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6600"/>
                </a:solidFill>
                <a:uFillTx/>
                <a:latin typeface="Arial"/>
                <a:hlinkClick r:id="rId2"/>
              </a:rPr>
              <a:t>Dihydrogen Monoxide Research Division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CRITICAL EVALUATION</a:t>
            </a:r>
            <a:br>
              <a:rPr sz="4000"/>
            </a:b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Why Evaluate What You Find on the Web?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nyone can put up a web pag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any pages not update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o quality contro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ost sites not “peer-reviewed”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less trustworthy than scholarly publication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Before you click to view the page...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Look at the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URL -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personal page or site ?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d600"/>
                </a:solidFill>
                <a:latin typeface="Arial"/>
              </a:rPr>
              <a:t>~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 or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d600"/>
                </a:solidFill>
                <a:latin typeface="Arial"/>
              </a:rPr>
              <a:t>%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or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d600"/>
                </a:solidFill>
                <a:latin typeface="Arial"/>
              </a:rPr>
              <a:t>users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 or  </a:t>
            </a:r>
            <a:r>
              <a:rPr b="1" lang="en-US" sz="1800" spc="-1" strike="noStrike">
                <a:solidFill>
                  <a:srgbClr val="00d600"/>
                </a:solidFill>
                <a:latin typeface="Arial"/>
              </a:rPr>
              <a:t>member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omain name appropriate for the content ?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Restricted:   </a:t>
            </a:r>
            <a:r>
              <a:rPr b="0" lang="en-US" sz="1600" spc="-1" strike="noStrike">
                <a:solidFill>
                  <a:srgbClr val="00d600"/>
                </a:solidFill>
                <a:latin typeface="Arial"/>
              </a:rPr>
              <a:t>edu,  gov,  mil,  a few country codes (ca)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Unrestricted:</a:t>
            </a:r>
            <a:r>
              <a:rPr b="0" lang="en-US" sz="1600" spc="-1" strike="noStrike">
                <a:solidFill>
                  <a:srgbClr val="ffcc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d600"/>
                </a:solidFill>
                <a:latin typeface="Arial"/>
              </a:rPr>
              <a:t>com,  org,  net,  most country codes (us, uk)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Published by an entity that makes sense ?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News from its source?  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lvl="4" marL="2286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d600"/>
                </a:solidFill>
                <a:latin typeface="Arial"/>
              </a:rPr>
              <a:t>www.</a:t>
            </a:r>
            <a:r>
              <a:rPr b="1" lang="en-US" sz="1600" spc="-1" strike="noStrike">
                <a:solidFill>
                  <a:srgbClr val="eee800"/>
                </a:solidFill>
                <a:latin typeface="Arial"/>
              </a:rPr>
              <a:t>nytimes</a:t>
            </a:r>
            <a:r>
              <a:rPr b="1" lang="en-US" sz="1600" spc="-1" strike="noStrike">
                <a:solidFill>
                  <a:srgbClr val="00d600"/>
                </a:solidFill>
                <a:latin typeface="Arial"/>
              </a:rPr>
              <a:t>.com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Advice from valid agency?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lvl="4" marL="2286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d600"/>
                </a:solidFill>
                <a:latin typeface="Arial"/>
              </a:rPr>
              <a:t>www.</a:t>
            </a:r>
            <a:r>
              <a:rPr b="1" lang="en-US" sz="1600" spc="-1" strike="noStrike">
                <a:solidFill>
                  <a:srgbClr val="eee800"/>
                </a:solidFill>
                <a:latin typeface="Arial"/>
              </a:rPr>
              <a:t>nih</a:t>
            </a:r>
            <a:r>
              <a:rPr b="1" lang="en-US" sz="1600" spc="-1" strike="noStrike">
                <a:solidFill>
                  <a:srgbClr val="00d600"/>
                </a:solidFill>
                <a:latin typeface="Arial"/>
              </a:rPr>
              <a:t>.gov/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lvl="4" marL="2286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d600"/>
                </a:solidFill>
                <a:latin typeface="Arial"/>
              </a:rPr>
              <a:t>www.nimh.</a:t>
            </a:r>
            <a:r>
              <a:rPr b="1" lang="en-US" sz="1600" spc="-1" strike="noStrike">
                <a:solidFill>
                  <a:srgbClr val="eee800"/>
                </a:solidFill>
                <a:latin typeface="Arial"/>
              </a:rPr>
              <a:t>nih</a:t>
            </a:r>
            <a:r>
              <a:rPr b="1" lang="en-US" sz="1600" spc="-1" strike="noStrike">
                <a:solidFill>
                  <a:srgbClr val="00d600"/>
                </a:solidFill>
                <a:latin typeface="Arial"/>
              </a:rPr>
              <a:t>.gov/</a:t>
            </a:r>
            <a:r>
              <a:rPr b="1" lang="en-US" sz="16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72684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Scan the perimeter of the page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356840"/>
            <a:ext cx="8153640" cy="51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cc"/>
                </a:solidFill>
                <a:latin typeface="Arial"/>
              </a:rPr>
              <a:t>Can you tell who wrote it ?</a:t>
            </a:r>
            <a:endParaRPr b="0" lang="en-US" sz="25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name of page author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organization, institution, agency you recognize</a:t>
            </a:r>
            <a:br>
              <a:rPr sz="1800"/>
            </a:br>
            <a:br>
              <a:rPr sz="1900"/>
            </a:br>
            <a:r>
              <a:rPr b="0" lang="en-US" sz="19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cc"/>
                </a:solidFill>
                <a:latin typeface="Arial"/>
              </a:rPr>
              <a:t>Credentials for the subject matter ?</a:t>
            </a:r>
            <a:endParaRPr b="0" lang="en-US" sz="25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Look for links to: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33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99ff33"/>
                </a:solidFill>
                <a:latin typeface="Arial"/>
              </a:rPr>
              <a:t>About us”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“Philosophy”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“Background”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6699"/>
                </a:solidFill>
                <a:latin typeface="Arial"/>
              </a:rPr>
              <a:t>“Biography”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ffffcc"/>
                </a:solidFill>
                <a:latin typeface="Arial"/>
              </a:rPr>
              <a:t>Is it current enough ?</a:t>
            </a:r>
            <a:endParaRPr b="0" lang="en-US" sz="25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cc"/>
                </a:solidFill>
                <a:latin typeface="Arial"/>
              </a:rPr>
              <a:t>Look for “last updated” date</a:t>
            </a:r>
            <a:endParaRPr b="0" lang="en-US" sz="19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674280"/>
            <a:ext cx="777240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xamine the conten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7543800" cy="49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possibly forged ?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why not a link to published version ?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ourc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ocumented with links or notes ?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o the links work ?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vidence of bia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n text or sources ?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591480"/>
            <a:ext cx="7620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Do some detective work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360" y="1752480"/>
            <a:ext cx="8191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earch the URL in 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Arial"/>
                <a:hlinkClick r:id="rId2"/>
              </a:rPr>
              <a:t>alexa.com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lick on “Site info for … ”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Who owns the domain?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Who links to the site?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What did the site look like in the past?  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  (Wayback Machine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95360" y="1752480"/>
            <a:ext cx="8191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hich blogs link to it?  What do they say?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ry the URL in 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Arial"/>
                <a:hlinkClick r:id="rId2"/>
              </a:rPr>
              <a:t>Google 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Arial"/>
                <a:hlinkClick r:id="rId3"/>
              </a:rPr>
              <a:t>Blog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Arial"/>
                <a:hlinkClick r:id="rId4"/>
              </a:rPr>
              <a:t> Search</a:t>
            </a:r>
            <a:br>
              <a:rPr sz="2400"/>
            </a:b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e what links are in Google’s “Similar pages”</a:t>
            </a:r>
            <a:br>
              <a:rPr sz="2800"/>
            </a:b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Look up the page author in Goog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160" y="53136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Does it all add up ?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532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as the page put on the web to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nform ?  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persuade ?  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ell ?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s a parody or satire ?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s it appropriate for your purpose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0" algn="ctr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560" y="482760"/>
            <a:ext cx="80010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"/>
              </a:rPr>
              <a:t>Try evaluating some sites...</a:t>
            </a: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arch a controversial topic in Googl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nuclear armagedd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prions dange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stem cells” abort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can the first two pages of resul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Visit one or two sites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valuate their quality and reliabilit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7T23:03:14Z</dcterms:created>
  <dc:creator>Library Systems Office</dc:creator>
  <dc:description/>
  <dc:language>en-US</dc:language>
  <cp:lastModifiedBy>Lakeview</cp:lastModifiedBy>
  <cp:lastPrinted>2008-01-28T21:25:23Z</cp:lastPrinted>
  <dcterms:modified xsi:type="dcterms:W3CDTF">2009-07-16T20:28:40Z</dcterms:modified>
  <cp:revision>118</cp:revision>
  <dc:subject/>
  <dc:title>PowerPoint Presentation</dc:title>
</cp:coreProperties>
</file>